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9D9B-4BB0-47E4-8286-3E68263B4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119-8278-4123-8ED7-98AB5EEAF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81F5-701E-4F7D-BA88-C4CCE81C3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2FA8-0FE2-45A3-88D6-00B478225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BB2-2805-4D42-B90B-EA2D38A6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9E1-79D6-4E47-91E4-9BEBD0ED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EE8-F168-4E90-8447-C0CCAAF0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5EE-4E4B-408E-81D3-C9CDB5B2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503-6561-4086-A8D3-50DB1C46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BC3-1A5D-45C2-B305-A57707F0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E68-2499-4FD9-9216-7884D5C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B6F-F23E-4666-815D-9535DD1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48D-7D59-42B3-AD02-B725C00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47D-D5C1-44A5-88BA-42E8133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966-A58B-4F82-B0DC-9B17F2AE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4DA-D96B-44F1-901C-F544B9B7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1AC-2379-4552-93FC-5B494A90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A5A-7936-4D0F-BF48-F5B8994D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4FB-5924-4E86-8AF1-F3DFCE4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E694-F82A-4EC1-A86D-1E18B7A65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 </cp:lastModifiedBy>
  <dcterms:modified xsi:type="dcterms:W3CDTF">2010-04-21T14:08:48Z</dcterms:modified>
  <cp:revision>45</cp:revision>
  <dc:subject/>
  <dc:title>No Slide Title</dc:title>
</cp:coreProperties>
</file>